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29.wmf" ContentType="image/x-wmf"/>
  <Override PartName="/ppt/media/image6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7.gif" ContentType="image/gif"/>
  <Override PartName="/ppt/media/image25.jpeg" ContentType="image/jpeg"/>
  <Override PartName="/ppt/media/image4.jpeg" ContentType="image/jpeg"/>
  <Override PartName="/ppt/media/image10.wmf" ContentType="image/x-wmf"/>
  <Override PartName="/ppt/media/image24.gif" ContentType="image/gif"/>
  <Override PartName="/ppt/media/image12.wmf" ContentType="image/x-wmf"/>
  <Override PartName="/ppt/media/image30.wmf" ContentType="image/x-wmf"/>
  <Override PartName="/ppt/media/image31.gif" ContentType="image/gif"/>
  <Override PartName="/ppt/media/image17.wmf" ContentType="image/x-wmf"/>
  <Override PartName="/ppt/media/image13.gif" ContentType="image/gif"/>
  <Override PartName="/ppt/media/image16.png" ContentType="image/png"/>
  <Override PartName="/ppt/media/image8.gif" ContentType="image/gif"/>
  <Override PartName="/ppt/media/image19.wmf" ContentType="image/x-wmf"/>
  <Override PartName="/ppt/media/image21.wmf" ContentType="image/x-wmf"/>
  <Override PartName="/ppt/media/image3.jpeg" ContentType="image/jpeg"/>
  <Override PartName="/ppt/media/image15.png" ContentType="image/png"/>
  <Override PartName="/ppt/media/image14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media/image22.wmf" ContentType="image/x-wmf"/>
  <Override PartName="/ppt/media/image23.wmf" ContentType="image/x-wmf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D6F-472E-49E7-93BE-93CD743C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37F-1E5C-4C47-B66C-E42258FD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34E-922C-465E-A385-1D54D096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D3F-5FF8-4E2C-A9CB-F7BD4EFA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084E-0205-4E83-9941-75A4E2CE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19CE-E87F-41D8-9003-E754DE7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4AB5-90DA-452E-9557-72D68090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E33C-4760-483D-847F-64158A86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61F1-306D-48AD-8437-0D6DE139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66C9-DD7C-4858-AAAE-144A7C27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ED8E-2DEE-4816-8133-54AC7A5B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AA3-74B7-42BB-B642-E698E593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8F15-5375-4FA7-88C0-C28AE89B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B78C-F205-41B9-A559-E5C5B618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7FD8-AF14-434B-8416-9EE9164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1A62-E01E-482C-9720-B98ECAF5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2070-24B3-4CF6-A30E-E22802E8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71D-2BA0-4A21-8D65-D538AFDC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56E-448D-48B9-88F4-9B07AB7F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A94-A0F7-49FE-800E-4ED5D7A9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A94-7632-4394-97F4-ADF261B7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A7F-97F1-41A8-9D0C-07E1CB77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E2D-F22F-48EE-AA3D-5E404084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CE6-87F5-40C9-A544-45368BA4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2262-7989-4C79-AFC5-727ED7214D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20E1-3836-48DE-B3FD-D4DAC19711E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1" name="Picture 4" descr="j0297705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09480" y="609480"/>
            <a:ext cx="4038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ergy: Forms and Chang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Because of the direct connection between energy and work, energy is measured in the same unit as work: joules (J)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n addition to using energy to do work, objects gain energy because work is being done on them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orm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nine forms of energy are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o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cl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chan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7" descr="C:\Users\gnwalton\AppData\Local\Microsoft\Windows\Temporary Internet Files\Content.IE5\UXQ2WTWY\MC900014095[1].wmf"/>
          <p:cNvPicPr/>
          <p:nvPr/>
        </p:nvPicPr>
        <p:blipFill>
          <a:blip r:embed="rId1"/>
          <a:stretch/>
        </p:blipFill>
        <p:spPr>
          <a:xfrm>
            <a:off x="6454800" y="2362320"/>
            <a:ext cx="20890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internal motion of the atoms is called heat energy, because moving particles produce hea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n be produced by frictio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uses changes in temperature and phase of any form of matte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br>
              <a:rPr sz="3600"/>
            </a:b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Give example.es of heat energ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hemical Energy is required to bond atoms together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And when bonds are broken, energy is released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579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uel and food are forms of stored chemical energy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4" descr="j0233391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that is contained in Electromagnetic wav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wer lines carry electromagnetic energy into your home in the form of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j0254406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What risk might occur for moving energy through power lines?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Picture 4" descr="j0254406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is a form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ach color of light (Roy G Biv) represents a different amount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ectromagnetic Energy is also carried by X-rays, radio waves, and laser ligh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4" descr="j0346439"/>
          <p:cNvPicPr/>
          <p:nvPr/>
        </p:nvPicPr>
        <p:blipFill>
          <a:blip r:embed="rId1"/>
          <a:stretch/>
        </p:blipFill>
        <p:spPr>
          <a:xfrm>
            <a:off x="6400800" y="1752480"/>
            <a:ext cx="2286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e nucleus of an atom is the source of nuclear energy.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7" descr="slide2"/>
          <p:cNvPicPr/>
          <p:nvPr/>
        </p:nvPicPr>
        <p:blipFill>
          <a:blip r:embed="rId1"/>
          <a:stretch/>
        </p:blipFill>
        <p:spPr>
          <a:xfrm>
            <a:off x="5105520" y="2057400"/>
            <a:ext cx="35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Question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re can energy be found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603360" y="685800"/>
            <a:ext cx="766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n the nucleus splits (fission), nuclear energy is released in the form of heat energy and light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Nuclear energy is also released when nuclei collide at high speeds and join (fusion)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8" name="Picture 4" descr="eit-304-sm"/>
          <p:cNvPicPr/>
          <p:nvPr/>
        </p:nvPicPr>
        <p:blipFill>
          <a:blip r:embed="rId1"/>
          <a:stretch/>
        </p:blipFill>
        <p:spPr>
          <a:xfrm>
            <a:off x="1143000" y="18288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5562720" y="198108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’s energy is produced from a nuclear fusion reaction in which hydrogen nuclei fuse to form helium nucle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Nuclear energy is the most concentrated form of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9" descr="j0233105"/>
          <p:cNvPicPr/>
          <p:nvPr/>
        </p:nvPicPr>
        <p:blipFill>
          <a:blip r:embed="rId1"/>
          <a:stretch/>
        </p:blipFill>
        <p:spPr>
          <a:xfrm>
            <a:off x="5029200" y="1981080"/>
            <a:ext cx="3189240" cy="3152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1905120" y="5638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The Surry Nuclear Power Plant converts nuclear energy into electromag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8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f Nuclear energy is the most concentrated form of energy why do you think it is not the most used?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When work is done to an object, it acquires energy. The energy it acquires is known as mechanical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en you kick a football, you give mechanical energy to the football to make it mov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11" descr="j0238729"/>
          <p:cNvPicPr/>
          <p:nvPr/>
        </p:nvPicPr>
        <p:blipFill>
          <a:blip r:embed="rId1"/>
          <a:stretch/>
        </p:blipFill>
        <p:spPr>
          <a:xfrm>
            <a:off x="5105520" y="21337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62" name="Picture 4" descr="j0239867"/>
          <p:cNvPicPr/>
          <p:nvPr/>
        </p:nvPicPr>
        <p:blipFill>
          <a:blip r:embed="rId1"/>
          <a:stretch/>
        </p:blipFill>
        <p:spPr>
          <a:xfrm>
            <a:off x="1295280" y="1828800"/>
            <a:ext cx="2895840" cy="3962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724280" y="198108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n you throw a bowling ball, you give it energy. When that bowling ball hits the pins, some of the energy is transferred to the pins (transfer of momentum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you think that mechanical energy gives energy to other object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igh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omagnetic Energy in Heat wav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unligh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Bulb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eadlight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C:\Users\gnwalton\AppData\Local\Microsoft\Windows\Temporary Internet Files\Content.IE5\IL4FTOGN\MC900432617[1].png"/>
          <p:cNvPicPr/>
          <p:nvPr/>
        </p:nvPicPr>
        <p:blipFill>
          <a:blip r:embed="rId1"/>
          <a:stretch/>
        </p:blipFill>
        <p:spPr>
          <a:xfrm>
            <a:off x="518148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igh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ight is a part of electromagnetic energy, why do you think we are studying it separatel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8594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Energy is all around you!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hear energy as sou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see energy as ligh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nd you can feel it as wi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4" descr="j0149003"/>
          <p:cNvPicPr/>
          <p:nvPr/>
        </p:nvPicPr>
        <p:blipFill>
          <a:blip r:embed="rId1"/>
          <a:stretch/>
        </p:blipFill>
        <p:spPr>
          <a:xfrm>
            <a:off x="5029200" y="457200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149108"/>
          <p:cNvPicPr/>
          <p:nvPr/>
        </p:nvPicPr>
        <p:blipFill>
          <a:blip r:embed="rId2"/>
          <a:stretch/>
        </p:blipFill>
        <p:spPr>
          <a:xfrm>
            <a:off x="838080" y="4572000"/>
            <a:ext cx="2948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ound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squeezing of air molecules when an object vibrates (travels in waves)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usic instruments and noise carry sound energ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3" descr="C:\Users\gnwalton\AppData\Local\Microsoft\Windows\Temporary Internet Files\Content.IE5\SFXCLWCO\MC900440448[1].wmf"/>
          <p:cNvPicPr/>
          <p:nvPr/>
        </p:nvPicPr>
        <p:blipFill>
          <a:blip r:embed="rId1"/>
          <a:stretch/>
        </p:blipFill>
        <p:spPr>
          <a:xfrm>
            <a:off x="4114800" y="40384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ical Energy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in electricity and electrical charged object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ical energy is produced by an electrical curren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2" descr="C:\Users\gnwalton\AppData\Local\Microsoft\Windows\Temporary Internet Files\Content.IE5\IL4FTOGN\MC910217618[1].wmf"/>
          <p:cNvPicPr/>
          <p:nvPr/>
        </p:nvPicPr>
        <p:blipFill>
          <a:blip r:embed="rId1"/>
          <a:stretch/>
        </p:blipFill>
        <p:spPr>
          <a:xfrm>
            <a:off x="5562720" y="3505320"/>
            <a:ext cx="15159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agnetic Energy can be found in door buzzers, speakers, and of course magnets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2" descr="C:\Users\gnwalton\AppData\Local\Microsoft\Windows\Temporary Internet Files\Content.IE5\QYC153RJ\MC900322447[1].wmf"/>
          <p:cNvPicPr/>
          <p:nvPr/>
        </p:nvPicPr>
        <p:blipFill>
          <a:blip r:embed="rId1"/>
          <a:stretch/>
        </p:blipFill>
        <p:spPr>
          <a:xfrm>
            <a:off x="5410080" y="3048120"/>
            <a:ext cx="2932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you think we classify Magnetic energy as a form of energ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2" descr="C:\Users\gnwalton\AppData\Local\Microsoft\Windows\Temporary Internet Files\Content.IE5\QYC153RJ\MC900322447[1].wmf"/>
          <p:cNvPicPr/>
          <p:nvPr/>
        </p:nvPicPr>
        <p:blipFill>
          <a:blip r:embed="rId1"/>
          <a:stretch/>
        </p:blipFill>
        <p:spPr>
          <a:xfrm>
            <a:off x="5410080" y="3048120"/>
            <a:ext cx="2932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changed from one form to another. Changes in the form of energy are called energy conversions or transformations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converted into other form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sun’s energy through solar cells can be converted directly into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een plants convert the sun’s energy (electromagnetic) into starches and sugars (chemical energy)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Other 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electric motor, electromagnetic energy is converted 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 battery, chemical energy is converted into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mechanical energy of a waterfall is converted to electrical energy in a generator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automobile engine, fuel is burned to convert chemical energy into heat energy. The heat energy is then changed in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9" descr="j0189238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3581280"/>
            <a:ext cx="7313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Heat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95" name="Picture 7" descr="j0289534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e up with an example of an energy conversion involving 3 forms of energy with your shoulder partn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Question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we need energy? What would happen if we did not have energ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603360" y="685800"/>
            <a:ext cx="766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tate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most common energy conversion is the conversion between potential an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in either of two stat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inetic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ates of Energy: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 and Potential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Kinetic Energy is the energy of motion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Potential Energy is stored energy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energy of motion is calle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faster an object moves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greater the mass of a moving object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Kinetic energy depends on both mass and velocit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me up with and example when demonstrating that both mass and velocity impact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tential Energy is stored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hemical Potent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stored chemically in fuel, the nucleus of atom, and in food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also be stored because of the work done on it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retching a rubber ban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nding a watc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ulling back on a bow’s arrow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fting a brick high in the ai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avitational Potential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dependent on height is called gravitational potential energ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6" descr="j0174827"/>
          <p:cNvPicPr/>
          <p:nvPr/>
        </p:nvPicPr>
        <p:blipFill>
          <a:blip r:embed="rId1"/>
          <a:stretch/>
        </p:blipFill>
        <p:spPr>
          <a:xfrm>
            <a:off x="5119560" y="1981080"/>
            <a:ext cx="3476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685944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waterfall, a suspension bridge, and a falling snowflake all have gravitational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4" descr="j0215316"/>
          <p:cNvPicPr/>
          <p:nvPr/>
        </p:nvPicPr>
        <p:blipFill>
          <a:blip r:embed="rId1"/>
          <a:stretch/>
        </p:blipFill>
        <p:spPr>
          <a:xfrm>
            <a:off x="1676520" y="3429000"/>
            <a:ext cx="6400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bigger they are the harder they fall” is not just a saying. It’s true. Objects with more mass have greater G.P.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7856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astic 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stored due to being stretched or compresse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j0289575.jpg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587600" cy="198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j0287339"/>
          <p:cNvPicPr/>
          <p:nvPr/>
        </p:nvPicPr>
        <p:blipFill>
          <a:blip r:embed="rId2"/>
          <a:stretch/>
        </p:blipFill>
        <p:spPr>
          <a:xfrm>
            <a:off x="4952880" y="3429000"/>
            <a:ext cx="179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1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-Potential Energy Conversion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447920" y="205740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ller coasters work because of the energy that is built into the system. Initially, the cars are pulled mechanically up the tallest hill, giving them a great deal of potential energy. From that point, the conversion between potential and kinetic energy powers the cars throughout the entire ri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11" descr="j0150157"/>
          <p:cNvPicPr/>
          <p:nvPr/>
        </p:nvPicPr>
        <p:blipFill>
          <a:blip r:embed="rId1"/>
          <a:stretch/>
        </p:blipFill>
        <p:spPr>
          <a:xfrm>
            <a:off x="2286000" y="4191120"/>
            <a:ext cx="51055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use energy when you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it a softbal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ft your book ba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press a spr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4" descr="j0289499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you think we classify potential energy in three different categor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vs.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26" name="Picture 4" descr="ce"/>
          <p:cNvPicPr/>
          <p:nvPr/>
        </p:nvPicPr>
        <p:blipFill>
          <a:blip r:embed="rId1"/>
          <a:stretch/>
        </p:blipFill>
        <p:spPr>
          <a:xfrm>
            <a:off x="1370160" y="1827360"/>
            <a:ext cx="6975360" cy="3138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1371600" y="5562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the point of maximum potential energy, the car has minimum ki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Law of Conservation of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neither created nor destroyed by ordinary mean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t can only be converted from one form to anoth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f energy seems to disappear, then scientists look for it – leading to many important discover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w of Conservation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n 1905, Albert Einstein said that mass and energy can be converted into each other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 showed that if matter is destroyed, energy is created, and if energy is destroyed mass is created.           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 = M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Vocabulary Word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371600" y="16002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chan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ea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hem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o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uclear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igh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und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05520" y="16765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i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ravitational 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 conver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aw of Conservation of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Living organisms need energy for growth and movement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4" descr="j0332364"/>
          <p:cNvPicPr/>
          <p:nvPr/>
        </p:nvPicPr>
        <p:blipFill>
          <a:blip r:embed="rId1"/>
          <a:stretch/>
        </p:blipFill>
        <p:spPr>
          <a:xfrm>
            <a:off x="1447920" y="1676520"/>
            <a:ext cx="3657600" cy="253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288860"/>
          <p:cNvPicPr/>
          <p:nvPr/>
        </p:nvPicPr>
        <p:blipFill>
          <a:blip r:embed="rId2"/>
          <a:stretch/>
        </p:blipFill>
        <p:spPr>
          <a:xfrm>
            <a:off x="5334120" y="1676520"/>
            <a:ext cx="3047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is involved when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ird fli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omb explod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rain falls from the sk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ectricity flows in a wir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7" descr="j0283219"/>
          <p:cNvPicPr/>
          <p:nvPr/>
        </p:nvPicPr>
        <p:blipFill>
          <a:blip r:embed="rId1"/>
          <a:stretch/>
        </p:blipFill>
        <p:spPr>
          <a:xfrm>
            <a:off x="5105520" y="2108160"/>
            <a:ext cx="3733560" cy="353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j0281782"/>
          <p:cNvPicPr/>
          <p:nvPr/>
        </p:nvPicPr>
        <p:blipFill>
          <a:blip r:embed="rId2"/>
          <a:stretch/>
        </p:blipFill>
        <p:spPr>
          <a:xfrm>
            <a:off x="304920" y="4648320"/>
            <a:ext cx="1541520" cy="1803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j0196198"/>
          <p:cNvPicPr/>
          <p:nvPr/>
        </p:nvPicPr>
        <p:blipFill>
          <a:blip r:embed="rId3"/>
          <a:stretch/>
        </p:blipFill>
        <p:spPr>
          <a:xfrm>
            <a:off x="6324480" y="152280"/>
            <a:ext cx="17766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at is energy that it can be involved in so many different activit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defined as the ability to do work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f an object or organism does work (exerts a force over a distance to move an object) the object or organism uses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23:14:26Z</dcterms:created>
  <dc:creator>Vicki Lewis</dc:creator>
  <dc:description/>
  <dc:language>en-US</dc:language>
  <cp:lastModifiedBy>Kimberly K. Piper</cp:lastModifiedBy>
  <dcterms:modified xsi:type="dcterms:W3CDTF">2015-10-05T19:35:25Z</dcterms:modified>
  <cp:revision>41</cp:revision>
  <dc:subject/>
  <dc:title>Energy:</dc:title>
</cp:coreProperties>
</file>